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chimes.wav" ContentType="audio/x-wav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5.gif" ContentType="image/gif"/>
  <Override PartName="/ppt/media/image30.wmf" ContentType="image/x-wmf"/>
  <Override PartName="/ppt/media/image28.wmf" ContentType="image/x-wmf"/>
  <Override PartName="/ppt/media/cashreg.wav" ContentType="audio/x-wav"/>
  <Override PartName="/ppt/media/image42.wmf" ContentType="image/x-wmf"/>
  <Override PartName="/ppt/media/camera.wav" ContentType="audio/x-wav"/>
  <Override PartName="/ppt/media/image40.gif" ContentType="image/gif"/>
  <Override PartName="/ppt/media/image43.wmf" ContentType="image/x-wmf"/>
  <Override PartName="/ppt/media/image44.wmf" ContentType="image/x-wmf"/>
  <Override PartName="/ppt/media/carbrake.wav" ContentType="audio/x-wav"/>
  <Override PartName="/ppt/media/image8.wmf" ContentType="image/x-wmf"/>
  <Override PartName="/ppt/media/image3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DA6-E565-479B-8A6E-6A0F666B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89B-3DD3-46DB-8FDD-94438629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536-320B-4FA9-B3F9-FE3F0105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9FD-259B-4D9F-A119-DBC95453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D94-7E50-4321-8931-8A050FE3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EA4-80AD-4C9C-A65B-A0BB0C97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178-F3F2-4887-940E-4A01CFD5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CBE-55CF-454B-B9E6-0006AC78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DA4-F01F-4361-9A43-A4B65D4C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C08-28F3-4565-B88E-7F33D196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FBA-BDD5-42E2-9EA2-45F666AC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A7D-F679-4377-82A1-EE6D31B1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D23B-73DF-4470-A0B0-3344F77FA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9.wmf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0.wmf"/><Relationship Id="rId3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7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9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6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7.wmf"/><Relationship Id="rId4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7.wmf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image" Target="../media/image45.gif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rbrake.wav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Compound Inequ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rite an inequality that represents the statement and graph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52480" y="2666880"/>
          <a:ext cx="194940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19494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1600200" y="4343400"/>
            <a:ext cx="5105160" cy="459720"/>
            <a:chOff x="1600200" y="4343400"/>
            <a:chExt cx="5105160" cy="459720"/>
          </a:xfrm>
        </p:grpSpPr>
        <p:sp>
          <p:nvSpPr>
            <p:cNvPr id="47" name=""/>
            <p:cNvSpPr/>
            <p:nvPr/>
          </p:nvSpPr>
          <p:spPr>
            <a:xfrm>
              <a:off x="1600200" y="457200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52480" y="43434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523880" y="46483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6    -5     -4      -3     -2     -1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4419720"/>
            <a:ext cx="30492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4572000"/>
            <a:ext cx="12193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05740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Times New Roman"/>
              </a:rPr>
              <a:t>1.  </a:t>
            </a:r>
            <a:r>
              <a:rPr b="1" i="1" lang="en-US" sz="30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990033"/>
                </a:solidFill>
                <a:latin typeface="Times New Roman"/>
              </a:rPr>
              <a:t> is greater than –4 and less than or equal to –2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657600" y="2590920"/>
          <a:ext cx="117000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590920"/>
                    <a:ext cx="1170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800600" y="2666880"/>
          <a:ext cx="19494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666880"/>
                    <a:ext cx="19494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752480" y="2666880"/>
          <a:ext cx="194940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2666880"/>
                    <a:ext cx="19494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838080" y="2666880"/>
          <a:ext cx="6961320" cy="66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2666880"/>
                    <a:ext cx="69613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648320" y="4419720"/>
            <a:ext cx="304560" cy="30456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Compound Inequ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rite an inequality that represents the statement and graph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974960" y="2666880"/>
          <a:ext cx="15033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4960" y="2666880"/>
                    <a:ext cx="1503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" name=""/>
          <p:cNvGrpSpPr/>
          <p:nvPr/>
        </p:nvGrpSpPr>
        <p:grpSpPr>
          <a:xfrm>
            <a:off x="1600200" y="4343400"/>
            <a:ext cx="5105160" cy="459720"/>
            <a:chOff x="1600200" y="4343400"/>
            <a:chExt cx="5105160" cy="459720"/>
          </a:xfrm>
        </p:grpSpPr>
        <p:sp>
          <p:nvSpPr>
            <p:cNvPr id="68" name=""/>
            <p:cNvSpPr/>
            <p:nvPr/>
          </p:nvSpPr>
          <p:spPr>
            <a:xfrm>
              <a:off x="1600200" y="457200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52480" y="43434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523880" y="46483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    -1      0       1      2      3   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419720"/>
            <a:ext cx="30456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572000"/>
            <a:ext cx="11430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05740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Times New Roman"/>
              </a:rPr>
              <a:t>2.  </a:t>
            </a:r>
            <a:r>
              <a:rPr b="1" i="1" lang="en-US" sz="30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990033"/>
                </a:solidFill>
                <a:latin typeface="Times New Roman"/>
              </a:rPr>
              <a:t> is greater than 3 </a:t>
            </a:r>
            <a:r>
              <a:rPr b="1" i="1" lang="en-US" sz="3000" spc="-1" strike="noStrike">
                <a:solidFill>
                  <a:srgbClr val="990033"/>
                </a:solidFill>
                <a:latin typeface="Times New Roman"/>
              </a:rPr>
              <a:t>or</a:t>
            </a:r>
            <a:r>
              <a:rPr b="1" lang="en-US" sz="3000" spc="-1" strike="noStrike">
                <a:solidFill>
                  <a:srgbClr val="990033"/>
                </a:solidFill>
                <a:latin typeface="Times New Roman"/>
              </a:rPr>
              <a:t> less than –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581280" y="2743200"/>
          <a:ext cx="77976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743200"/>
                    <a:ext cx="77976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419720" y="2666880"/>
          <a:ext cx="18936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2666880"/>
                    <a:ext cx="18936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523880" y="4572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mpound Inequality with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th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04920" y="1752480"/>
          <a:ext cx="518004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51800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57600" y="2362320"/>
          <a:ext cx="8352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36232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572000" y="2362320"/>
          <a:ext cx="83520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36232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295280" y="3048120"/>
            <a:ext cx="4191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27200" y="3048120"/>
          <a:ext cx="94608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7200" y="304812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438280" y="3048120"/>
          <a:ext cx="55728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04812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0" y="3048120"/>
          <a:ext cx="5014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304812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77948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5120" y="3657600"/>
          <a:ext cx="55692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5120" y="365760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200400" y="3657600"/>
          <a:ext cx="55728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0040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676520" y="4343400"/>
          <a:ext cx="946080" cy="66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6520" y="4343400"/>
                    <a:ext cx="9460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809880" y="4343400"/>
          <a:ext cx="557280" cy="671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09880" y="4343400"/>
                    <a:ext cx="5572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446720" y="4343400"/>
          <a:ext cx="50148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46720" y="4343400"/>
                    <a:ext cx="501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990720" y="5257800"/>
            <a:ext cx="5714640" cy="825480"/>
            <a:chOff x="990720" y="5257800"/>
            <a:chExt cx="5714640" cy="825480"/>
          </a:xfrm>
        </p:grpSpPr>
        <p:sp>
          <p:nvSpPr>
            <p:cNvPr id="109" name=""/>
            <p:cNvSpPr/>
            <p:nvPr/>
          </p:nvSpPr>
          <p:spPr>
            <a:xfrm>
              <a:off x="990720" y="548640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61000" y="525780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914400" y="5562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    -2     -1      0       1      2      3   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5334120"/>
            <a:ext cx="30492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133360" y="5486400"/>
            <a:ext cx="33526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2362320"/>
          <a:ext cx="83484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447920" y="236232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048120" y="3048120"/>
          <a:ext cx="838080" cy="627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48120" y="3048120"/>
                    <a:ext cx="8380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886200" y="3048120"/>
          <a:ext cx="573120" cy="685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886200" y="3048120"/>
                    <a:ext cx="573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49568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0" y="3657600"/>
          <a:ext cx="55728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57200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590920" y="4343400"/>
          <a:ext cx="556920" cy="614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90920" y="4343400"/>
                    <a:ext cx="5569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200400" y="4419720"/>
          <a:ext cx="557280" cy="558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200400" y="4419720"/>
                    <a:ext cx="557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486400" y="5334120"/>
            <a:ext cx="304920" cy="30456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mpound Inequality with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th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1752480"/>
          <a:ext cx="573732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57373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716200" y="2362320"/>
          <a:ext cx="8906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6200" y="2362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029200" y="2362320"/>
          <a:ext cx="8906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2362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1295280" y="3048120"/>
            <a:ext cx="45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54200" y="304812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54200" y="30481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590920" y="3048120"/>
          <a:ext cx="55692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3048120"/>
                    <a:ext cx="55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405320" y="3048120"/>
          <a:ext cx="836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05320" y="3048120"/>
                    <a:ext cx="836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990720" y="4267080"/>
            <a:ext cx="5714640" cy="825480"/>
            <a:chOff x="990720" y="4267080"/>
            <a:chExt cx="5714640" cy="825480"/>
          </a:xfrm>
        </p:grpSpPr>
        <p:sp>
          <p:nvSpPr>
            <p:cNvPr id="145" name=""/>
            <p:cNvSpPr/>
            <p:nvPr/>
          </p:nvSpPr>
          <p:spPr>
            <a:xfrm>
              <a:off x="990720" y="44956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61000" y="42670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14400" y="4572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    -4     -3     -2      -1     0      1    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434340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95120" y="4495680"/>
            <a:ext cx="12193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371600" y="236232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71600" y="2362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205080" y="3100320"/>
          <a:ext cx="52380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05080" y="3100320"/>
                    <a:ext cx="5238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733920" y="3076560"/>
          <a:ext cx="573120" cy="628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33920" y="3076560"/>
                    <a:ext cx="5731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114800" y="434340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mpound Inequality with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th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520" y="1752480"/>
          <a:ext cx="529092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52909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657600" y="2286000"/>
          <a:ext cx="8906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2860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876920" y="2286000"/>
          <a:ext cx="8906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2860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295280" y="2971800"/>
            <a:ext cx="45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654200" y="304812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54200" y="30481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514600" y="3021120"/>
          <a:ext cx="5572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302112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648320" y="3048120"/>
          <a:ext cx="55692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8320" y="30481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990720" y="5791320"/>
            <a:ext cx="5714640" cy="825480"/>
            <a:chOff x="990720" y="5791320"/>
            <a:chExt cx="5714640" cy="825480"/>
          </a:xfrm>
        </p:grpSpPr>
        <p:sp>
          <p:nvSpPr>
            <p:cNvPr id="174" name=""/>
            <p:cNvSpPr/>
            <p:nvPr/>
          </p:nvSpPr>
          <p:spPr>
            <a:xfrm>
              <a:off x="990720" y="601992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61000" y="579132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14400" y="6095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    -3     -2     -1       0     1       2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586728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33360" y="6019920"/>
            <a:ext cx="33526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22860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22860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971800" y="3048120"/>
          <a:ext cx="1152360" cy="62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3048120"/>
                    <a:ext cx="11523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038480" y="3048120"/>
          <a:ext cx="573120" cy="628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38480" y="3048120"/>
                    <a:ext cx="5731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486400" y="58672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7948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38440" y="3657600"/>
          <a:ext cx="89208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38440" y="3657600"/>
                    <a:ext cx="892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033720" y="3657600"/>
          <a:ext cx="89064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33720" y="36576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057400" y="4343400"/>
          <a:ext cx="557280" cy="669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57400" y="4343400"/>
                    <a:ext cx="557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809880" y="4370400"/>
          <a:ext cx="557280" cy="615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09880" y="4370400"/>
                    <a:ext cx="5572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267080" y="4343400"/>
          <a:ext cx="890640" cy="669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267080" y="4343400"/>
                    <a:ext cx="8906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49568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405320" y="3657600"/>
          <a:ext cx="89208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405320" y="3657600"/>
                    <a:ext cx="892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590920" y="4316400"/>
          <a:ext cx="556920" cy="669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90920" y="4316400"/>
                    <a:ext cx="5569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00400" y="4419720"/>
          <a:ext cx="557280" cy="558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200400" y="4419720"/>
                    <a:ext cx="557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2057400" y="4952880"/>
          <a:ext cx="2894040" cy="669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057400" y="4952880"/>
                    <a:ext cx="28940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mpound Inequality with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th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920" y="1752480"/>
          <a:ext cx="77403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7740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133720" y="2286000"/>
          <a:ext cx="8906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2860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295280" y="29718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057400" y="3048120"/>
          <a:ext cx="8906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0481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819520" y="3048120"/>
          <a:ext cx="5569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3048120"/>
                    <a:ext cx="55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990720" y="5791320"/>
            <a:ext cx="5714640" cy="825480"/>
            <a:chOff x="990720" y="5791320"/>
            <a:chExt cx="5714640" cy="825480"/>
          </a:xfrm>
        </p:grpSpPr>
        <p:sp>
          <p:nvSpPr>
            <p:cNvPr id="220" name=""/>
            <p:cNvSpPr/>
            <p:nvPr/>
          </p:nvSpPr>
          <p:spPr>
            <a:xfrm>
              <a:off x="990720" y="601992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61000" y="579132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914400" y="6095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            4                5             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586728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914040" y="6019920"/>
            <a:ext cx="16765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48120" y="22860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22860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429000" y="3048120"/>
          <a:ext cx="471600" cy="62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3048120"/>
                    <a:ext cx="4716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4038480" y="58672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8440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09680" y="3657600"/>
          <a:ext cx="557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352680" y="3657600"/>
          <a:ext cx="55728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5268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209680" y="4419720"/>
          <a:ext cx="557280" cy="558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4419720"/>
                    <a:ext cx="557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43200" y="4343400"/>
          <a:ext cx="557280" cy="61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43200" y="4343400"/>
                    <a:ext cx="557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276720" y="4343400"/>
          <a:ext cx="55692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76720" y="4343400"/>
                    <a:ext cx="5569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867280" y="2286000"/>
          <a:ext cx="83520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67280" y="228600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5181480" y="29718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943600" y="3048120"/>
          <a:ext cx="89064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943600" y="30481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6705720" y="3097080"/>
          <a:ext cx="556920" cy="668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705720" y="3097080"/>
                    <a:ext cx="5569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7010280" y="2286000"/>
          <a:ext cx="83520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010280" y="228600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7238880" y="3048120"/>
          <a:ext cx="733680" cy="625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38880" y="3048120"/>
                    <a:ext cx="7336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5970600" y="37339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37339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122880" y="3733920"/>
          <a:ext cx="501840" cy="668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122880" y="3733920"/>
                    <a:ext cx="501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265880" y="3733920"/>
          <a:ext cx="501840" cy="668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265880" y="3733920"/>
                    <a:ext cx="501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6095880" y="4495680"/>
          <a:ext cx="557280" cy="5590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095880" y="4495680"/>
                    <a:ext cx="5572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6629400" y="4392720"/>
          <a:ext cx="557280" cy="6699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629400" y="4392720"/>
                    <a:ext cx="557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7189920" y="4419720"/>
          <a:ext cx="501480" cy="6699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189920" y="4419720"/>
                    <a:ext cx="501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343400" y="6019920"/>
            <a:ext cx="2438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495680" y="4419720"/>
          <a:ext cx="836640" cy="5587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495680" y="4419720"/>
                    <a:ext cx="836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mpound Inequality with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th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04920" y="1752480"/>
          <a:ext cx="77403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7740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792520" y="2286000"/>
          <a:ext cx="94608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2520" y="22860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1981080" y="29718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438280" y="2971800"/>
          <a:ext cx="127980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2971800"/>
                    <a:ext cx="127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581280" y="2971800"/>
          <a:ext cx="55728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297180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0" name=""/>
          <p:cNvGrpSpPr/>
          <p:nvPr/>
        </p:nvGrpSpPr>
        <p:grpSpPr>
          <a:xfrm>
            <a:off x="990720" y="5791320"/>
            <a:ext cx="5714640" cy="825480"/>
            <a:chOff x="990720" y="5791320"/>
            <a:chExt cx="5714640" cy="825480"/>
          </a:xfrm>
        </p:grpSpPr>
        <p:sp>
          <p:nvSpPr>
            <p:cNvPr id="281" name=""/>
            <p:cNvSpPr/>
            <p:nvPr/>
          </p:nvSpPr>
          <p:spPr>
            <a:xfrm>
              <a:off x="990720" y="601992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61000" y="579132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914400" y="6095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6   -5     -4      -3     -2    -1      0 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586728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6019920"/>
            <a:ext cx="16765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706920" y="2286000"/>
          <a:ext cx="9460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6920" y="22860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114800" y="2971800"/>
          <a:ext cx="523800" cy="62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2971800"/>
                    <a:ext cx="5238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3352680" y="58672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58960" y="3581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62520" y="3581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589120" y="3581280"/>
          <a:ext cx="947880" cy="668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89120" y="3581280"/>
                    <a:ext cx="9478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809880" y="3581280"/>
          <a:ext cx="947880" cy="668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9880" y="3581280"/>
                    <a:ext cx="9478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895480" y="4419720"/>
          <a:ext cx="557280" cy="558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95480" y="4419720"/>
                    <a:ext cx="557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3429000" y="4343400"/>
          <a:ext cx="557280" cy="61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4343400"/>
                    <a:ext cx="557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3886200" y="4343400"/>
          <a:ext cx="83664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86200" y="4343400"/>
                    <a:ext cx="8366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5943600" y="2438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11880" y="2438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068880" y="2438280"/>
          <a:ext cx="557280" cy="668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68880" y="2438280"/>
                    <a:ext cx="5572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7315200" y="2438280"/>
          <a:ext cx="557280" cy="668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315200" y="2438280"/>
                    <a:ext cx="5572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6095880" y="4495680"/>
          <a:ext cx="557280" cy="559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095880" y="4495680"/>
                    <a:ext cx="5572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629400" y="4392720"/>
          <a:ext cx="557280" cy="669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92720"/>
                    <a:ext cx="557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086600" y="4343400"/>
          <a:ext cx="890640" cy="669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086600" y="4343400"/>
                    <a:ext cx="8906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 flipH="1">
            <a:off x="914040" y="6019920"/>
            <a:ext cx="2438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876920" y="4419720"/>
          <a:ext cx="836640" cy="558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876920" y="4419720"/>
                    <a:ext cx="836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429000" y="4468680"/>
            <a:ext cx="3257640" cy="2389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12193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8. In 1985, a real estate property was sold f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172,000.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The property was sold again in 1999 f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226,000.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Write a compound inequality that represents the different values that the property was worth between 1995 and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2971800"/>
          <a:ext cx="3341880" cy="77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971800"/>
                    <a:ext cx="33418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181480" y="2971800"/>
          <a:ext cx="3343320" cy="77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2971800"/>
                    <a:ext cx="3343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295280" y="3886200"/>
          <a:ext cx="6135840" cy="78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3886200"/>
                    <a:ext cx="6135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3962520" y="2971800"/>
          <a:ext cx="1170000" cy="722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2971800"/>
                    <a:ext cx="11700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33520" y="2971800"/>
          <a:ext cx="3343320" cy="777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3520" y="2971800"/>
                    <a:ext cx="33433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" descr=""/>
          <p:cNvPicPr/>
          <p:nvPr/>
        </p:nvPicPr>
        <p:blipFill>
          <a:blip r:embed="rId12"/>
          <a:stretch/>
        </p:blipFill>
        <p:spPr>
          <a:xfrm>
            <a:off x="2190600" y="4800600"/>
            <a:ext cx="1362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5-11-08T13:40:56Z</dcterms:modified>
  <cp:revision>37</cp:revision>
  <dc:subject/>
  <dc:title>PowerPoint Presentation</dc:title>
</cp:coreProperties>
</file>